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B890-DDEA-4AED-90F5-20D1F520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165C-F6FA-40CA-B16A-73720D76BF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DD3-3291-46E3-930F-CC7B046BB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A85-B244-4F18-BB35-8AA45C679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233-1B5A-4BD8-B47C-33D16E23B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727D-9264-4A96-85AC-A386130E7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091-3117-4543-985F-AA4B19C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DBD-DC37-47EA-ADF5-8023E5A5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50A-3F79-4AFD-8980-77FA6F48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87B-3D74-47A2-9A99-A7987A02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030-DAF5-428E-A1BA-7CBB61A7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DA38-5A98-4158-8997-F28B7CA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936C-0FAE-4CFC-9EDA-A490D36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B37-D3F5-46D0-B7D6-07A1A90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BF3-EBE4-4138-9B28-1AACAF1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98F-2D0F-4E86-A7FB-32739EC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9A3C-E32B-43AC-B65E-E4EF7D7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7F2-1C39-4F78-A08A-85F2470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13F4-5B1A-4255-BF72-845C7AB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B891-F121-47AA-A4C1-40AEC29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6C20-C5EE-4D85-9AEE-799CAA7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2736-47AB-40DE-89C1-28E825B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2231-BFB4-4134-82D0-A30D0911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9FE-0E3E-4E8B-A22E-3BF1145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5F2-788E-4D25-8D2D-7C0C9BEF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435-C454-4E87-8574-97E0AC4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FBD-0F4C-47CC-B2A0-3495CEA8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172-2B0B-4D6A-9BF7-DA52C67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944-8291-4221-AC50-15E3DAB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57B-FA69-4CF2-AE05-E4F3FE0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ECD6-72DD-4C3E-B21A-521393DDE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618-8D9A-496C-97E4-0E24998600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9160"/>
            <a:ext cx="838224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Federal Cour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DEFINE ORIGIN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743200" y="3178080"/>
            <a:ext cx="39956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608040"/>
            <a:ext cx="9144000" cy="31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EFINE APELLATE JURISDICTION.</a:t>
            </a:r>
            <a:br>
              <a:rPr sz="44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(Can you pronounce it?)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:-)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16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ich Article of the Constitution created the Judicial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2760" y="32767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RUE OR FAL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ank Robbery is under Feder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42130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RUE OR FAL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Murder is under Feder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617920" y="3362400"/>
            <a:ext cx="3908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08T12:48:20Z</dcterms:modified>
  <cp:revision>133</cp:revision>
  <dc:subject/>
  <dc:title>D/O: TO EXPLAIN AND IDENTIFY PROBLEMS OF ECONOMICS</dc:title>
</cp:coreProperties>
</file>